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66B-B5F5-46F0-92BF-88D3A164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happ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ong Pat Bena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lo – aint it fu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built this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’s D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563-F2EF-4789-9DB8-D8ED1EEF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25F-98F5-4716-A3B7-33C605B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979-553E-4201-9280-D3903697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9C9-E635-41B8-8161-E2AEC872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B364-AF2D-46DD-9F52-6BCA9677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C8F7-D0A9-4D9E-B8E8-F1DDB1C6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48CC-295F-44A8-A3BB-416D535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755-C288-43E1-899A-DDD59FA0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C613-CF6C-42F4-B69E-56332F3F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14A-3A4F-415A-9157-C53C610D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B7A-632C-4F3B-B457-631C661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E82-0A20-45BC-92A9-6CE42BE7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7573-5C51-42E6-9122-280666B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50AC-FF7F-4210-9779-41D9A9B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EDC0-FFA4-4EC7-B1BA-03AF457A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8D14-CA0B-435B-8A7D-53EC9701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8C7F-2FF7-41E2-B9D5-AE7F4FDD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5F6-2C4E-4219-A32E-FE6C7D8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0EA-C3E0-4E60-9B1F-3A2B3BCA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984-D290-4E7D-B401-B253E4B8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5FA-FFA3-469D-A373-08A3B48A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66F-13FF-4B3A-ABC2-C4F03F7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498-77AE-4BD5-A89E-E067A60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E84-BC9F-40A8-9F3E-A34A3C35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B638-23AF-4795-B1A5-65C7AA77DFC2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577F-AA0A-49ED-88AE-7B2A1B3F0984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Ultimate Playlis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odie Resni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ason Rosenblu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vid Ro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ocelyn Split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lliam Van N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720" t="4297" r="2720" b="4297"/>
          <a:stretch/>
        </p:blipFill>
        <p:spPr>
          <a:xfrm>
            <a:off x="185760" y="3081240"/>
            <a:ext cx="3819600" cy="234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504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The Data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3520" y="1600200"/>
            <a:ext cx="73371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The Model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"/>
              </a:rPr>
              <a:t>The Result: The “Ultimate Playlist”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&amp;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024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anagerial Problem Definit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rmulat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tting Up the Mod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ur “Costs”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Mod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Q&amp;A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Managerial Problem Definition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want to organize your playlist for all of your moods, but itunes won’t do it for you!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577960" cy="1884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33274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Formulation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cision Variabl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e are deciding which songs to have on each of our chosen playlist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bjective Func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inimize the cost created by having undesirable songs on a playlis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Each song must be assigned to a playlist, which must be an integer between 0 &amp; 3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here can not be a negative number of songs on each playlis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Setting Up the Model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1500 songs randomly narrowed down to 50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ongs classified by Genre, Year, Length &amp; Personal Preferenc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We wanted to create 3 playlists for different mood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ods: Workout, Party &amp; Rela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he Workout Playlist: An uptempo selection of songs for the gym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0 min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 amount of songs &lt;1 =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 amount of songs &gt;5 =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 rock so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 pop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8 danc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alternativ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 easy liste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 worl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 classic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851200" cy="312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15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858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he Party Playlist: A longer dance mix for the perfect party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20 minut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lt;1 = 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gt;5 = 4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2 rock song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6 pop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0 danc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2 alternati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 easy listening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6 world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 classica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2880" y="2933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914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Characteristics of our Playlists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he Relax Playlist: A slow mix to wind your day down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60 minut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lt;1 = 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x amount of songs &gt;5 = 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 rock song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4 pop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 danc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4 alternati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 easy listening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4 world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 classica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038400" cy="2841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8372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Our “Costs”</a:t>
            </a: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osts” were created as penalties for songs that were outside of our specification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laylist length penal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Rating penalty (5 stars = 0; 1 star = 400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ong length penal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enre penal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553080" y="3581280"/>
            <a:ext cx="2133720" cy="2114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2139840" cy="2143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514600" y="4648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9:16:55Z</dcterms:created>
  <dc:creator>Jodie Resnick</dc:creator>
  <dc:description/>
  <dc:language>en-US</dc:language>
  <cp:lastModifiedBy>user</cp:lastModifiedBy>
  <dcterms:modified xsi:type="dcterms:W3CDTF">2007-12-03T01:24:08Z</dcterms:modified>
  <cp:revision>23</cp:revision>
  <dc:subject/>
  <dc:title>project title</dc:title>
</cp:coreProperties>
</file>